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456C-5FEF-4C08-BCEF-41980FE1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58B5-8507-429A-B38C-419375F3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A83-8313-44B2-B210-0818B17A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AFE0-C337-4FE4-B60A-3E114177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6BC1-F477-4F26-8678-CC37FF0C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A678-825A-4BE2-84C8-CE5C5FAA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781C-C0D0-4A80-92ED-75F8EF82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64C7-2E1D-45AC-A785-B154257C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DF1A-B2A0-4D4E-B2AD-FF348C1E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5D86-C807-4876-B477-40732315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F31E-BDE5-4C0A-9F6D-324D1927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ACC-56D5-448F-8934-078BD2D6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890A-F067-4F22-83CC-3CD5F011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EA76-E8A7-4403-A829-B221AB67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C998-DAC1-4E27-A88F-9892EA36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79A5-6417-411C-B6AD-42C502AF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D25B-E71D-45E7-8169-376AE033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B0AC-DCA1-4979-BB0D-E8DC6966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A7FC-2613-4566-A72E-681151C9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F14F-52D0-4A8C-84FE-398B03F4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DA9-E8B5-4B6A-AD63-5ABD654A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540-4A89-459F-8E08-74F1DE21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002-DD25-4970-869A-D069278B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314-DBF8-48A7-A383-570F6519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5400"/>
            </a:gs>
            <a:gs pos="100000">
              <a:srgbClr val="f4be5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50000">
                  <a:srgbClr val="50732e"/>
                </a:gs>
                <a:gs pos="100000">
                  <a:srgbClr val="2a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a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D60D-EC06-4D7C-A069-E3D10AA924D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5400"/>
            </a:gs>
            <a:gs pos="100000">
              <a:srgbClr val="f4be5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50000">
                  <a:srgbClr val="50732e"/>
                </a:gs>
                <a:gs pos="100000">
                  <a:srgbClr val="2a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a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5B7F-DBB4-4F22-A7FA-10227A923B6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Виды спорта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924000" y="5660640"/>
            <a:ext cx="507204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готовила Пушкарёва Анаста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292720" y="158760"/>
            <a:ext cx="3527280" cy="12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Шв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6" name="Picture 4" descr="06-18_rus-swe_SM_14"/>
          <p:cNvPicPr/>
          <p:nvPr/>
        </p:nvPicPr>
        <p:blipFill>
          <a:blip r:embed="rId1"/>
          <a:stretch/>
        </p:blipFill>
        <p:spPr>
          <a:xfrm>
            <a:off x="179280" y="189000"/>
            <a:ext cx="4897440" cy="3938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06-18_rus-swe_SM_19"/>
          <p:cNvPicPr/>
          <p:nvPr/>
        </p:nvPicPr>
        <p:blipFill>
          <a:blip r:embed="rId2"/>
          <a:stretch/>
        </p:blipFill>
        <p:spPr>
          <a:xfrm>
            <a:off x="5305320" y="2060640"/>
            <a:ext cx="36529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339408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Шв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9" name="Picture 4" descr="06-18_rus-swe_SM_27"/>
          <p:cNvPicPr/>
          <p:nvPr/>
        </p:nvPicPr>
        <p:blipFill>
          <a:blip r:embed="rId1"/>
          <a:stretch/>
        </p:blipFill>
        <p:spPr>
          <a:xfrm>
            <a:off x="250920" y="260280"/>
            <a:ext cx="4897440" cy="4051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06-18_rus-swe_SM_22"/>
          <p:cNvPicPr/>
          <p:nvPr/>
        </p:nvPicPr>
        <p:blipFill>
          <a:blip r:embed="rId2"/>
          <a:stretch/>
        </p:blipFill>
        <p:spPr>
          <a:xfrm>
            <a:off x="5462640" y="907920"/>
            <a:ext cx="341784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Голланд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т матч стал, несомненно, лучшим футболом в исполнении сборной России за последние 20 лет. Встреча закончилась со счетом 3:1 в пользу России. Голы забили Павлюченко, Аршавин и Торбинский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16360" y="188640"/>
            <a:ext cx="41148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94" name="Picture 4" descr="1214164674_485e73b1cbca5"/>
          <p:cNvPicPr/>
          <p:nvPr/>
        </p:nvPicPr>
        <p:blipFill>
          <a:blip r:embed="rId1"/>
          <a:stretch/>
        </p:blipFill>
        <p:spPr>
          <a:xfrm>
            <a:off x="250920" y="260280"/>
            <a:ext cx="4270320" cy="5905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1214164736_485e74059d6e1"/>
          <p:cNvPicPr/>
          <p:nvPr/>
        </p:nvPicPr>
        <p:blipFill>
          <a:blip r:embed="rId2"/>
          <a:stretch/>
        </p:blipFill>
        <p:spPr>
          <a:xfrm>
            <a:off x="4711680" y="1052640"/>
            <a:ext cx="44323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4076280"/>
            <a:ext cx="3970080" cy="11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97" name="Picture 4" descr="1214164800_485e7542b1196"/>
          <p:cNvPicPr/>
          <p:nvPr/>
        </p:nvPicPr>
        <p:blipFill>
          <a:blip r:embed="rId1"/>
          <a:stretch/>
        </p:blipFill>
        <p:spPr>
          <a:xfrm>
            <a:off x="179280" y="189000"/>
            <a:ext cx="5329440" cy="3382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1214164748_485e73b1bf848"/>
          <p:cNvPicPr/>
          <p:nvPr/>
        </p:nvPicPr>
        <p:blipFill>
          <a:blip r:embed="rId2"/>
          <a:stretch/>
        </p:blipFill>
        <p:spPr>
          <a:xfrm>
            <a:off x="5327640" y="1557360"/>
            <a:ext cx="35164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788000" y="158400"/>
            <a:ext cx="38988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00" name="Picture 4" descr="1214164795_485e7542b86ff"/>
          <p:cNvPicPr/>
          <p:nvPr/>
        </p:nvPicPr>
        <p:blipFill>
          <a:blip r:embed="rId1"/>
          <a:stretch/>
        </p:blipFill>
        <p:spPr>
          <a:xfrm>
            <a:off x="179280" y="189000"/>
            <a:ext cx="4278600" cy="561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1214164831_485e761c93941"/>
          <p:cNvPicPr/>
          <p:nvPr/>
        </p:nvPicPr>
        <p:blipFill>
          <a:blip r:embed="rId2"/>
          <a:stretch/>
        </p:blipFill>
        <p:spPr>
          <a:xfrm>
            <a:off x="4903920" y="981000"/>
            <a:ext cx="404496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f2d9"/>
                </a:solidFill>
                <a:latin typeface="Arial"/>
              </a:rPr>
              <a:t>По итогам этого турнира Россия получила бронзовые медали. 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03" name="Picture 4" descr="26907779_1213119785_AP080610014542"/>
          <p:cNvPicPr/>
          <p:nvPr/>
        </p:nvPicPr>
        <p:blipFill>
          <a:blip r:embed="rId1"/>
          <a:stretch/>
        </p:blipFill>
        <p:spPr>
          <a:xfrm>
            <a:off x="826920" y="1484280"/>
            <a:ext cx="78487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f2d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88640"/>
            <a:ext cx="793116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очу поблагодарить все футболистов сборной России за такой праздник, и пусть они так же радуют своих болельщик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06-14_gre-rus_SA_13"/>
          <p:cNvPicPr/>
          <p:nvPr/>
        </p:nvPicPr>
        <p:blipFill>
          <a:blip r:embed="rId1"/>
          <a:stretch/>
        </p:blipFill>
        <p:spPr>
          <a:xfrm>
            <a:off x="1187280" y="1557360"/>
            <a:ext cx="72723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Футбол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ная России на чемпионате Европы 2008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4" descr="1213609735_football_russia_grecia"/>
          <p:cNvPicPr/>
          <p:nvPr/>
        </p:nvPicPr>
        <p:blipFill>
          <a:blip r:embed="rId2"/>
          <a:stretch/>
        </p:blipFill>
        <p:spPr>
          <a:xfrm>
            <a:off x="5000760" y="1600200"/>
            <a:ext cx="3333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Испан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вро 2008 наша сборная играла с Испанцами два матча. Оба матча мы проиграли. Первую встречу со счетом 1:4, вторую 0:3. Следует заметить что Испанцы стали чемпионами этого турни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41920" y="333000"/>
            <a:ext cx="4222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- Испания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68" name="Picture 4" descr="26907781_1213119800_AP080610014609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313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26907793_1213119825_AP080610014799"/>
          <p:cNvPicPr/>
          <p:nvPr/>
        </p:nvPicPr>
        <p:blipFill>
          <a:blip r:embed="rId2"/>
          <a:stretch/>
        </p:blipFill>
        <p:spPr>
          <a:xfrm>
            <a:off x="4356000" y="3624120"/>
            <a:ext cx="449100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640" y="333360"/>
            <a:ext cx="39592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- Испания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71" name="Picture 8" descr="26907814_1213119933_AP080610016315"/>
          <p:cNvPicPr/>
          <p:nvPr/>
        </p:nvPicPr>
        <p:blipFill>
          <a:blip r:embed="rId1"/>
          <a:stretch/>
        </p:blipFill>
        <p:spPr>
          <a:xfrm>
            <a:off x="179280" y="189000"/>
            <a:ext cx="4537080" cy="3416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26907795_1213119838_AP080610014955"/>
          <p:cNvPicPr/>
          <p:nvPr/>
        </p:nvPicPr>
        <p:blipFill>
          <a:blip r:embed="rId2"/>
          <a:stretch/>
        </p:blipFill>
        <p:spPr>
          <a:xfrm>
            <a:off x="4716360" y="3668760"/>
            <a:ext cx="44276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- Греция  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99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ту встречу с греками мы выиграли со счетом 1:0. Главным героем встречи стал Константин Зырянов, который пушечным ударом забил гол. Следует отметить и Семака, который дал Константину пас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4" descr="06-14_gre-rus_MEL_17"/>
          <p:cNvPicPr/>
          <p:nvPr/>
        </p:nvPicPr>
        <p:blipFill>
          <a:blip r:embed="rId2"/>
          <a:stretch/>
        </p:blipFill>
        <p:spPr>
          <a:xfrm>
            <a:off x="3924360" y="1557360"/>
            <a:ext cx="504036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3280" y="158760"/>
            <a:ext cx="3816360" cy="15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р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77" name="Picture 7" descr="06-14_gre-rus_SA_17"/>
          <p:cNvPicPr/>
          <p:nvPr/>
        </p:nvPicPr>
        <p:blipFill>
          <a:blip r:embed="rId1"/>
          <a:stretch/>
        </p:blipFill>
        <p:spPr>
          <a:xfrm>
            <a:off x="5078520" y="2205000"/>
            <a:ext cx="3813120" cy="4464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06-14_gre-rus_MEL_22"/>
          <p:cNvPicPr/>
          <p:nvPr/>
        </p:nvPicPr>
        <p:blipFill>
          <a:blip r:embed="rId2"/>
          <a:stretch/>
        </p:blipFill>
        <p:spPr>
          <a:xfrm>
            <a:off x="179280" y="0"/>
            <a:ext cx="44244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40000" y="158760"/>
            <a:ext cx="454644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р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0" name="Picture 4" descr="06-14_gre-rus_SA_25"/>
          <p:cNvPicPr/>
          <p:nvPr/>
        </p:nvPicPr>
        <p:blipFill>
          <a:blip r:embed="rId1"/>
          <a:stretch/>
        </p:blipFill>
        <p:spPr>
          <a:xfrm>
            <a:off x="250920" y="189000"/>
            <a:ext cx="3695760" cy="3816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06-14_gre-rus_SA_33"/>
          <p:cNvPicPr/>
          <p:nvPr/>
        </p:nvPicPr>
        <p:blipFill>
          <a:blip r:embed="rId2"/>
          <a:stretch/>
        </p:blipFill>
        <p:spPr>
          <a:xfrm>
            <a:off x="4067280" y="3332160"/>
            <a:ext cx="4929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Швец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этом матче Россия обыграла шведов со счетом 2:0. Голы забили Аршавин и Павлюченко. Также стоит выделить Игнашевича, который удачно сыграл против главного бамбордира сборной Швеции Ибрагимовича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4" descr="06-18_rus-swe_SM_18"/>
          <p:cNvPicPr/>
          <p:nvPr/>
        </p:nvPicPr>
        <p:blipFill>
          <a:blip r:embed="rId2"/>
          <a:stretch/>
        </p:blipFill>
        <p:spPr>
          <a:xfrm>
            <a:off x="4211640" y="1628640"/>
            <a:ext cx="460836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3:13:56Z</dcterms:created>
  <dc:creator>USER</dc:creator>
  <dc:description/>
  <dc:language>en-US</dc:language>
  <cp:lastModifiedBy>Ирина Петровна</cp:lastModifiedBy>
  <dcterms:modified xsi:type="dcterms:W3CDTF">2009-08-17T15:14:46Z</dcterms:modified>
  <cp:revision>4</cp:revision>
  <dc:subject/>
  <dc:title>Слайд 1</dc:title>
</cp:coreProperties>
</file>